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0E78-AF5A-4ADA-90E2-0E50E0A3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023C-E31F-4EC2-9B03-ECFE0D6C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F92-D3CC-421E-B7E7-3B8C5E27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7D3E-BF25-49D8-9D06-CB031C45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EE0-2636-46C0-B0EC-D174443C2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EB6-2E80-48BB-976C-B3837D66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9671-8282-4D40-902D-A4A80C77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5788-E980-438B-A982-DA950B0D2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FC1-5950-4695-A872-64C6067E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9739-E4DB-4CDE-9133-76311259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807B-34FB-4D44-B4CD-06D3E535B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19AC-C3C5-4A3C-A4BB-25131DCB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6DC-12FB-4F8A-88A7-ABD2DB81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AD2-5F3C-41AD-A0A5-9F477F7E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CF3-9D7B-4DE1-AA3F-86D871A1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43F-41D7-4BE4-BBC4-06D88584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D73-F382-4976-8AEA-FB2E13E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7F2-ACEE-4B86-9568-A2B7C6DF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2C1-ABBB-4655-B082-C13CE73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F3B-EFE5-4C9B-A9F2-45459814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D76-1A00-4D5C-85A7-2AECA831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D68-F05C-4DD4-A03C-4EC314F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DDB-282F-46FA-8112-63B6819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0AE-F197-4C29-BE9F-768F15F7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6A1B-B160-4F60-84CB-141FADF16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509"/>
                </a:solidFill>
                <a:latin typeface="Arial"/>
              </a:rPr>
              <a:t>Titl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erbert Hoover and the Great 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1-325-quickfacts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over made 2 mistakes in addressing the problems of the Great 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d passage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wley-Smoot Tar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d import duties of foreign goods to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ulsion 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nus Expeditionary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War I veterans lobbied for early payment of benefits for their service but bill was def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fused to leave &amp; squatted in empty government off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ver ordered the Army to expel them; cavalry attacked them with tear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ensured the loss of Hoover’s re-election &amp; the election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gued for a more interventionist gover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mised relief payments to unemploy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ugural address: Declared war on the Depre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509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ff3509"/>
                </a:solidFill>
                <a:latin typeface="Arial"/>
              </a:rPr>
              <a:t>The only thing we have to fear is fear itself nameless, unreasoning, unjustified fear.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ed sweeping reform called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w D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3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509"/>
                </a:solidFill>
                <a:latin typeface="Arial"/>
              </a:rPr>
              <a:t>Listen to 1933 spee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757760" y="1905120"/>
            <a:ext cx="4386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1-322-map"/>
          <p:cNvPicPr/>
          <p:nvPr/>
        </p:nvPicPr>
        <p:blipFill>
          <a:blip r:embed="rId1"/>
          <a:stretch/>
        </p:blipFill>
        <p:spPr>
          <a:xfrm>
            <a:off x="0" y="0"/>
            <a:ext cx="4734000" cy="586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11-323-quickfacts"/>
          <p:cNvPicPr/>
          <p:nvPr/>
        </p:nvPicPr>
        <p:blipFill>
          <a:blip r:embed="rId2"/>
          <a:stretch/>
        </p:blipFill>
        <p:spPr>
          <a:xfrm>
            <a:off x="4844880" y="1981080"/>
            <a:ext cx="4299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1-330-closeup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pression had a calamitous effect on tens of millions of Americ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 taken away when mortgage payments were not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less built shantytowns, sarcastically calle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vervil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1-326-image"/>
          <p:cNvPicPr/>
          <p:nvPr/>
        </p:nvPicPr>
        <p:blipFill>
          <a:blip r:embed="rId1"/>
          <a:stretch/>
        </p:blipFill>
        <p:spPr>
          <a:xfrm>
            <a:off x="3809880" y="3005280"/>
            <a:ext cx="5334120" cy="3852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savings lost as thousands of banks fai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s went bankrupt or, to avoid bankruptcy, laid off the majority of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ural areas, farmers struggled as produce prices dropped more than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11-340-image"/>
          <p:cNvPicPr/>
          <p:nvPr/>
        </p:nvPicPr>
        <p:blipFill>
          <a:blip r:embed="rId2"/>
          <a:stretch/>
        </p:blipFill>
        <p:spPr>
          <a:xfrm>
            <a:off x="0" y="3048120"/>
            <a:ext cx="40384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1-329-quickfact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1-332-map"/>
          <p:cNvPicPr/>
          <p:nvPr/>
        </p:nvPicPr>
        <p:blipFill>
          <a:blip r:embed="rId1"/>
          <a:stretch/>
        </p:blipFill>
        <p:spPr>
          <a:xfrm>
            <a:off x="0" y="1447920"/>
            <a:ext cx="5638680" cy="4397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make matters worse, a prolonged drought afflicted the Great Pla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2160" y="1218960"/>
            <a:ext cx="5181480" cy="56386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 turned into a gia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st Bo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: Agrarian un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d those who tried to evi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pired to keep their f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rmers’ Holiday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33520" y="49320"/>
            <a:ext cx="8610480" cy="6808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54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1-341-image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11-342-visualsummary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56:28Z</dcterms:created>
  <dc:creator>Office:Mac User</dc:creator>
  <dc:description/>
  <dc:language>en-US</dc:language>
  <cp:lastModifiedBy>Sacerdote, Kevin R.</cp:lastModifiedBy>
  <dcterms:modified xsi:type="dcterms:W3CDTF">2017-01-12T13:27:49Z</dcterms:modified>
  <cp:revision>5</cp:revision>
  <dc:subject/>
  <dc:title>Title: Herbert Hoover and the Great Depression</dc:title>
</cp:coreProperties>
</file>